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921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68AC-EEBD-445A-A3EB-F46991929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AA12-DE89-46AD-9CC2-E4DA694638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CF8C-5DCE-4B17-B79E-83C076075E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238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600200" y="3643560"/>
            <a:ext cx="7238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09640" y="129492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00200" y="364356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09640" y="364356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233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47840" y="1294920"/>
            <a:ext cx="233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95480" y="1294920"/>
            <a:ext cx="233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600200" y="3643560"/>
            <a:ext cx="233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047840" y="3643560"/>
            <a:ext cx="233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95480" y="3643560"/>
            <a:ext cx="233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00200" y="12949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32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09640" y="1294920"/>
            <a:ext cx="3532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00200" y="45684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09640" y="1294920"/>
            <a:ext cx="3532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00200" y="364356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600200" y="12949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32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9640" y="129492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09640" y="364356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9640" y="129492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600200" y="3643560"/>
            <a:ext cx="7238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238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600200" y="3643560"/>
            <a:ext cx="7238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9640" y="129492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00200" y="364356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09640" y="364356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233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47840" y="1294920"/>
            <a:ext cx="233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95480" y="1294920"/>
            <a:ext cx="233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00200" y="3643560"/>
            <a:ext cx="233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047840" y="3643560"/>
            <a:ext cx="233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95480" y="3643560"/>
            <a:ext cx="233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32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09640" y="1294920"/>
            <a:ext cx="3532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00200" y="45684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09640" y="1294920"/>
            <a:ext cx="3532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600200" y="364356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32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9640" y="129492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09640" y="364356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09640" y="129492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00200" y="3643560"/>
            <a:ext cx="7238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9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12949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9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600200" y="12949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71625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NSF Research Experiences for Teachers (RET)</a:t>
            </a:r>
            <a:br>
              <a:rPr sz="4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ofessional Development</a:t>
            </a:r>
            <a:br>
              <a:rPr sz="3200"/>
            </a:b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752480" y="19807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 Teacher Leaders Presen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thryn Blanke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na Og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aron Debb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 Session 4:  Academic Content Standards, Curriculum, Assessment, Misconceptions, and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wards 6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Cincinn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dnesday, October 29,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:30 – 6:3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NSF Home Page"/>
          <p:cNvPicPr/>
          <p:nvPr/>
        </p:nvPicPr>
        <p:blipFill>
          <a:blip r:embed="rId1"/>
          <a:stretch/>
        </p:blipFill>
        <p:spPr>
          <a:xfrm>
            <a:off x="784872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921"/>
                </a:solidFill>
                <a:latin typeface="Arial"/>
              </a:rPr>
              <a:t>             </a:t>
            </a:r>
            <a:r>
              <a:rPr b="0" lang="en-US" sz="3600" spc="-1" strike="noStrike">
                <a:solidFill>
                  <a:srgbClr val="fc1921"/>
                </a:solidFill>
                <a:latin typeface="Arial"/>
              </a:rPr>
              <a:t>Announcements</a:t>
            </a:r>
            <a:endParaRPr b="0" lang="en-US" sz="36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99840" y="10666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EDP PD Eval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indicated that you need a better understanding of how to arrive at the Big Idea.  We will be doing some of that today as well as modeling of CB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ite with prepared Units and NAE website.  Help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Week – Timelines are du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on Flip Lesson on CB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Resource: Science Teacher and Scope Magazine by N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Liberid\AppData\Local\Microsoft\Windows\Temporary Internet Files\Content.IE5\VVN3O128\MC900370352[1].wmf"/>
          <p:cNvPicPr/>
          <p:nvPr/>
        </p:nvPicPr>
        <p:blipFill>
          <a:blip r:embed="rId1"/>
          <a:stretch/>
        </p:blipFill>
        <p:spPr>
          <a:xfrm>
            <a:off x="228600" y="380880"/>
            <a:ext cx="1660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68520" y="-686160"/>
            <a:ext cx="7238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921"/>
                </a:solidFill>
                <a:latin typeface="Arial"/>
              </a:rPr>
              <a:t>            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600" spc="-1" strike="noStrike">
                <a:solidFill>
                  <a:srgbClr val="fc1921"/>
                </a:solidFill>
                <a:latin typeface="Arial"/>
              </a:rPr>
              <a:t>Questions/Concerns/Complaints</a:t>
            </a:r>
            <a:br>
              <a:rPr sz="3600"/>
            </a:br>
            <a:br>
              <a:rPr sz="2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can we provide clarification, assistance and support?</a:t>
            </a: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fc1921"/>
              </a:solidFill>
              <a:latin typeface="Arial"/>
            </a:endParaRPr>
          </a:p>
        </p:txBody>
      </p:sp>
      <p:pic>
        <p:nvPicPr>
          <p:cNvPr id="92" name="Picture 6" descr="C:\Users\Liberid\AppData\Local\Microsoft\Windows\Temporary Internet Files\Content.IE5\GT071HZ3\MC900358967[1].wmf"/>
          <p:cNvPicPr/>
          <p:nvPr/>
        </p:nvPicPr>
        <p:blipFill>
          <a:blip r:embed="rId1"/>
          <a:stretch/>
        </p:blipFill>
        <p:spPr>
          <a:xfrm>
            <a:off x="1066680" y="1463760"/>
            <a:ext cx="1219320" cy="122076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2286000" y="5410080"/>
            <a:ext cx="56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we incorporate EDP in the Challeng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11" descr="C:\Users\Liberid\AppData\Local\Microsoft\Windows\Temporary Internet Files\Content.IE5\VVN3O128\MC900441902[1].wmf"/>
          <p:cNvPicPr/>
          <p:nvPr/>
        </p:nvPicPr>
        <p:blipFill>
          <a:blip r:embed="rId2"/>
          <a:stretch/>
        </p:blipFill>
        <p:spPr>
          <a:xfrm>
            <a:off x="3203640" y="3124080"/>
            <a:ext cx="1520640" cy="1797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C:\Users\Liberid\AppData\Local\Microsoft\Windows\Temporary Internet Files\Content.IE5\VVN3O128\MC900441930[1].wmf"/>
          <p:cNvPicPr/>
          <p:nvPr/>
        </p:nvPicPr>
        <p:blipFill>
          <a:blip r:embed="rId3"/>
          <a:stretch/>
        </p:blipFill>
        <p:spPr>
          <a:xfrm>
            <a:off x="5095800" y="3200400"/>
            <a:ext cx="17528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c1921"/>
                </a:solidFill>
                <a:latin typeface="Arial"/>
              </a:rPr>
              <a:t>Academic Content Standards, Curriculum, Assessment, Misconceptions, and Instruction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NSF Home Page"/>
          <p:cNvPicPr/>
          <p:nvPr/>
        </p:nvPicPr>
        <p:blipFill>
          <a:blip r:embed="rId1"/>
          <a:stretch/>
        </p:blipFill>
        <p:spPr>
          <a:xfrm>
            <a:off x="784872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533520" y="1523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by Step approach to Unit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2313000" y="2117880"/>
            <a:ext cx="6019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9" descr="C:\Users\Liberid\AppData\Local\Microsoft\Windows\Temporary Internet Files\Content.IE5\4C0VEWPN\MC900439356[1].jpg"/>
          <p:cNvPicPr/>
          <p:nvPr/>
        </p:nvPicPr>
        <p:blipFill>
          <a:blip r:embed="rId2"/>
          <a:stretch/>
        </p:blipFill>
        <p:spPr>
          <a:xfrm>
            <a:off x="996840" y="18176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C:\Users\Liberid\AppData\Local\Microsoft\Windows\Temporary Internet Files\Content.IE5\GT071HZ3\MC900056986[1].wmf"/>
          <p:cNvPicPr/>
          <p:nvPr/>
        </p:nvPicPr>
        <p:blipFill>
          <a:blip r:embed="rId3"/>
          <a:stretch/>
        </p:blipFill>
        <p:spPr>
          <a:xfrm>
            <a:off x="3809880" y="2503440"/>
            <a:ext cx="272916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921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fc1921"/>
                </a:solidFill>
                <a:latin typeface="Arial"/>
              </a:rPr>
              <a:t>Agenda for Today</a:t>
            </a:r>
            <a:br>
              <a:rPr sz="3200"/>
            </a:b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28440" y="1523880"/>
            <a:ext cx="70866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eshments, Announcements, Introduction of PD and Reminders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5 min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/Concerns/Complaints from Participa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5 min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601"/>
              </a:spcBef>
              <a:buClr>
                <a:srgbClr val="ff33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 - Academic Content Standards, Curriculum, Assessment, Misconceptions, and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thryn Blankenship, Aaron Debbink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na Ogde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 hour 20 min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of Unit development based on curriculum. Revisit the Timelines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 min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BL Flip Lesson – Background and Handou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0 min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C:\Users\Liberid\AppData\Local\Microsoft\Windows\Temporary Internet Files\Content.IE5\4C0VEWPN\MC900289955[1].wmf"/>
          <p:cNvPicPr/>
          <p:nvPr/>
        </p:nvPicPr>
        <p:blipFill>
          <a:blip r:embed="rId1"/>
          <a:stretch/>
        </p:blipFill>
        <p:spPr>
          <a:xfrm>
            <a:off x="1752480" y="228600"/>
            <a:ext cx="19051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5331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c1921"/>
                </a:solidFill>
                <a:uFillTx/>
                <a:latin typeface="Arial"/>
              </a:rPr>
              <a:t>Next</a:t>
            </a:r>
            <a:r>
              <a:rPr b="0" lang="en-US" sz="3600" spc="-1" strike="noStrike">
                <a:solidFill>
                  <a:srgbClr val="fc1921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fc1921"/>
                </a:solidFill>
                <a:uFillTx/>
                <a:latin typeface="Arial"/>
              </a:rPr>
              <a:t>Week</a:t>
            </a:r>
            <a:r>
              <a:rPr b="0" lang="en-US" sz="3600" spc="-1" strike="noStrike">
                <a:solidFill>
                  <a:srgbClr val="fc1921"/>
                </a:solidFill>
                <a:latin typeface="Arial"/>
              </a:rPr>
              <a:t> - </a:t>
            </a:r>
            <a:r>
              <a:rPr b="0" lang="en-US" sz="3200" spc="-1" strike="noStrike">
                <a:solidFill>
                  <a:srgbClr val="fc1921"/>
                </a:solidFill>
                <a:latin typeface="Arial"/>
              </a:rPr>
              <a:t>Tuesday, November 5</a:t>
            </a:r>
            <a:r>
              <a:rPr b="0" lang="en-US" sz="3200" spc="-1" strike="noStrike" baseline="30000">
                <a:solidFill>
                  <a:srgbClr val="fc1921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c19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905120" y="13716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f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re meeting in Edwards One, on Corry 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m 61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rking would be in Corry Garage (just past Edward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king passes will be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reshments will be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ing time again is 4:30 – 6: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pic will be Unit templates and Uni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33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will be allotted to discuss timeline and next steps.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C:\Users\Debbie\AppData\Local\Microsoft\Windows\Temporary Internet Files\Content.IE5\H1BLGIFR\MC900283365[1].wmf"/>
          <p:cNvPicPr/>
          <p:nvPr/>
        </p:nvPicPr>
        <p:blipFill>
          <a:blip r:embed="rId1"/>
          <a:stretch/>
        </p:blipFill>
        <p:spPr>
          <a:xfrm>
            <a:off x="7086600" y="2666880"/>
            <a:ext cx="152388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18:16:45Z</dcterms:created>
  <dc:creator>University of Cincinnati</dc:creator>
  <dc:description/>
  <dc:language>en-US</dc:language>
  <cp:lastModifiedBy>Debora A Liberi</cp:lastModifiedBy>
  <cp:lastPrinted>2013-10-09T14:37:14Z</cp:lastPrinted>
  <dcterms:modified xsi:type="dcterms:W3CDTF">2013-10-29T17:11:01Z</dcterms:modified>
  <cp:revision>98</cp:revision>
  <dc:subject/>
  <dc:title>PowerPoint Presentation</dc:title>
</cp:coreProperties>
</file>